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0AD2-BC6F-4F2E-82CA-4529D7C62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424D-2366-4ED9-BE32-B57B30EEA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F8F2-DD8D-4C43-B8A1-CDE785096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CBCD-EA08-4D37-B812-3091550A5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BED5-745D-42B1-A60E-785847FE3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DF87-C5C9-43EC-8310-50E18AA3D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77C2-B879-4ED5-BB9E-09E3D9E44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7C5F-09B9-4567-9AB8-74F4BFAD1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7189-517A-4FB5-BA82-0598C7608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8B84-1B9F-4B12-944D-26835BE59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AE5F-FA92-4DE7-A040-367451ACD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74F5-1398-4F12-A495-5BC4DFF6A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694200" y="6536160"/>
            <a:ext cx="765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E6D806-ACA0-461C-9410-B7DCBCAE963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18320" y="656172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320" y="6591240"/>
            <a:ext cx="24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BenQ-Siemens, EF81 – Nov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4b6a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rry Vodafone Approval plan (SG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ff82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ff82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ff82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124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130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F4A0-8D11-4CCF-88DC-4F078E1D71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8:11:40Z</dcterms:created>
  <dc:creator>CB</dc:creator>
  <dc:description/>
  <dc:language>en-US</dc:language>
  <cp:lastModifiedBy>bartlt</cp:lastModifiedBy>
  <cp:lastPrinted>2003-08-14T19:11:01Z</cp:lastPrinted>
  <dcterms:modified xsi:type="dcterms:W3CDTF">2006-02-21T14:41:06Z</dcterms:modified>
  <cp:revision>572</cp:revision>
  <dc:subject/>
  <dc:title>Aurora / Ulysses - Product Overview and Summ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8433915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Jerry-Vodafone-Approval-Plan status 060221.ppt</vt:lpwstr>
  </property>
  <property fmtid="{D5CDD505-2E9C-101B-9397-08002B2CF9AE}" pid="6" name="_NewReviewCycle">
    <vt:lpwstr/>
  </property>
</Properties>
</file>